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612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540640" y="6543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D38C24-D0E6-409C-B774-1DAD83F6DE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rcRect l="0" t="89542" r="0" b="0"/>
          <a:stretch/>
        </p:blipFill>
        <p:spPr>
          <a:xfrm>
            <a:off x="0" y="6813720"/>
            <a:ext cx="9140760" cy="698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0"/>
            <a:ext cx="9142560" cy="861840"/>
            <a:chOff x="0" y="0"/>
            <a:chExt cx="9142560" cy="8618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456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igura2"/>
          <p:cNvPicPr/>
          <p:nvPr/>
        </p:nvPicPr>
        <p:blipFill>
          <a:blip r:embed="rId1"/>
          <a:stretch/>
        </p:blipFill>
        <p:spPr>
          <a:xfrm>
            <a:off x="68436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988920" y="1189080"/>
            <a:ext cx="6934320" cy="43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ANUÁRIO ESTATÍSTICO DA PREVIDÊNCIA SOCIAL –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PRINCIPAIS RESULTA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fevereiro de 20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964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PS – Secretaria de Políticas de Previdência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680" y="5178600"/>
            <a:ext cx="9144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15 registrou queda no nível de concessão de benefícios em todos os grupos de espécie, de forma mais acentuada entre os Auxílios, com 22,2% a menos em relação a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A CONCESS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312840" y="1679400"/>
            <a:ext cx="851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"/>
          <p:cNvPicPr/>
          <p:nvPr/>
        </p:nvPicPr>
        <p:blipFill>
          <a:blip r:embed="rId1"/>
          <a:stretch/>
        </p:blipFill>
        <p:spPr>
          <a:xfrm>
            <a:off x="230040" y="1052640"/>
            <a:ext cx="868392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"/>
          <p:cNvPicPr/>
          <p:nvPr/>
        </p:nvPicPr>
        <p:blipFill>
          <a:blip r:embed="rId1"/>
          <a:stretch/>
        </p:blipFill>
        <p:spPr>
          <a:xfrm>
            <a:off x="682560" y="1844640"/>
            <a:ext cx="7778880" cy="4654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RELATIVA DAS APOSENTADORIAS E PENSÕES CONCEDIDAS POR SEXO E CLIENTELA -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5506560"/>
            <a:ext cx="9144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valor líquido de emissão de 2015 foi 10,8% superior ao registrado em 2014, representando 6,11% do PIB. Resultado impulsionado pelo aumento da despesa com aposentadorias na ordem de 11,3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DA EMISS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Imagem 3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5579640"/>
            <a:ext cx="9144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antidade de benefícios cessados em 2015 foi 10,9% inferior que a observada em 2014, quando cessaram 3.883.316 benefícios. A razão da queda foi a menor cessação entre os auxílios, com 444.987 benefícios cessados a menos em 201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SSAÇ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4" descr=""/>
          <p:cNvPicPr/>
          <p:nvPr/>
        </p:nvPicPr>
        <p:blipFill>
          <a:blip r:embed="rId1"/>
          <a:stretch/>
        </p:blipFill>
        <p:spPr>
          <a:xfrm>
            <a:off x="571680" y="1484280"/>
            <a:ext cx="8001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5798520"/>
            <a:ext cx="9144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 houve queda de 14,0% na quantidade de acidentes do trabalho em relação ao ano anterior, sendo que entre aqueles sem CAT registrada a queda chegou a 25,9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IDENTES DO TRABALHO – AEPS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Imagem 4" descr=""/>
          <p:cNvPicPr/>
          <p:nvPr/>
        </p:nvPicPr>
        <p:blipFill>
          <a:blip r:embed="rId1"/>
          <a:stretch/>
        </p:blipFill>
        <p:spPr>
          <a:xfrm>
            <a:off x="271440" y="1679400"/>
            <a:ext cx="8601120" cy="40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7920" y="5718960"/>
            <a:ext cx="9144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os acidentes do trabalho ocorridos com CAT registrada em 2015, houve aumento relativo entre aqueles de trajeto, passando de 20,7% do ano anterior para 21,1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2"/>
          <p:cNvSpPr/>
          <p:nvPr/>
        </p:nvSpPr>
        <p:spPr>
          <a:xfrm>
            <a:off x="6588000" y="1536840"/>
            <a:ext cx="223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Típic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correm da característica da atividade profissiona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de Trajet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ão aqueles ocorridos no trajeto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Devidos à Doença do Trabalh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ão ocasionados por doença profissional peculiar ao ramo de ativida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Imagem 6" descr=""/>
          <p:cNvPicPr/>
          <p:nvPr/>
        </p:nvPicPr>
        <p:blipFill>
          <a:blip r:embed="rId1"/>
          <a:stretch/>
        </p:blipFill>
        <p:spPr>
          <a:xfrm>
            <a:off x="179280" y="1324080"/>
            <a:ext cx="6750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NTRIBUINTES DO RG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7920" y="5589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 houve queda na quantidade de contribuintes do RGPS que realizaram ao menos uma contribuição no ano, 1,91% inferior ao registrado em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Imagem 2" descr=""/>
          <p:cNvPicPr/>
          <p:nvPr/>
        </p:nvPicPr>
        <p:blipFill>
          <a:blip r:embed="rId1"/>
          <a:stretch/>
        </p:blipFill>
        <p:spPr>
          <a:xfrm>
            <a:off x="1400040" y="1679400"/>
            <a:ext cx="63439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-7920" y="5589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eda foi menor pelo conceito da média mensal de contribuintes, com redução de 1,27% em relação ao observado em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Imagem 1" descr=""/>
          <p:cNvPicPr/>
          <p:nvPr/>
        </p:nvPicPr>
        <p:blipFill>
          <a:blip r:embed="rId1"/>
          <a:stretch/>
        </p:blipFill>
        <p:spPr>
          <a:xfrm>
            <a:off x="1400040" y="1679400"/>
            <a:ext cx="63439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522936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eda na quantidade da média mensal de contribuintes foi suavizada pela manutenção dos outros contribuintes em nível muito próximo à de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Imagem 2" descr=""/>
          <p:cNvPicPr/>
          <p:nvPr/>
        </p:nvPicPr>
        <p:blipFill>
          <a:blip r:embed="rId1"/>
          <a:stretch/>
        </p:blipFill>
        <p:spPr>
          <a:xfrm>
            <a:off x="146160" y="1679400"/>
            <a:ext cx="8851680" cy="33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3" descr=""/>
          <p:cNvPicPr/>
          <p:nvPr/>
        </p:nvPicPr>
        <p:blipFill>
          <a:blip r:embed="rId1"/>
          <a:stretch/>
        </p:blipFill>
        <p:spPr>
          <a:xfrm>
            <a:off x="228600" y="1052640"/>
            <a:ext cx="86868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4877640"/>
            <a:ext cx="91440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, as aposentadorias e pensões ativas ultrapassaram a marca de 26 milhões de benefícios, o que representa 92,4% do estoque em dezembro de 201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grupo Outros Benefícios é formado pelo Salário-Maternidade, o Abono de Permanência e a Vantagem de Servidor, estes dois últimos benefícios já extintos, mas que se encontram em manutençã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S BENEFÍCIOS ATIVOS DO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312840" y="1679400"/>
            <a:ext cx="851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"/>
          <p:cNvPicPr/>
          <p:nvPr/>
        </p:nvPicPr>
        <p:blipFill>
          <a:blip r:embed="rId1"/>
          <a:stretch/>
        </p:blipFill>
        <p:spPr>
          <a:xfrm>
            <a:off x="228600" y="1052640"/>
            <a:ext cx="86868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manuel  de Araujo Dantas - MPS</dc:creator>
  <dc:description/>
  <dc:language>en-US</dc:language>
  <cp:lastModifiedBy>Silvana do Socorro Machado Rodrigues - MPS</cp:lastModifiedBy>
  <dcterms:modified xsi:type="dcterms:W3CDTF">2017-02-09T16:08:49Z</dcterms:modified>
  <cp:revision>174</cp:revision>
  <dc:subject/>
  <dc:title>Slide 1</dc:title>
</cp:coreProperties>
</file>